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EDCF0-7464-4BB9-A29A-3F2067D6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DD6F9-1DCA-4424-98D1-5F9ADC46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F23A5-918C-4224-9344-6C9F0DF4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CE1AB-51D9-4D65-A4C0-C631CCE0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FAD2-AD5C-4A00-9687-9BF83561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E470-8D59-4C6C-AABC-4A1A36A9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976E-B312-4A46-92F5-B893A95F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6DDE-6A15-4726-BC72-812F0A64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5D40-C20C-44D1-93DF-1FDD42C7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FB0C-6BD5-4F81-BEAA-3E0663A6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31E2-3B1D-47F6-89FA-7F944B45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32D74-7B8A-40C1-A864-1DCF0BEE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79A3-33CD-4844-8570-8F274FF2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A47F-AFD2-44CE-9931-B7652862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258C-01F4-4098-9879-FFDB5430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8892-FCE8-4BF4-971B-3AC11F8D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B95C-0CCD-4904-A6A5-27B68F31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DBF0E-5F28-410F-B963-2E364A55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ED1BB-FA2E-46F8-A342-E7F9FCC1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8DB2C-06E2-4C31-9158-A61AB593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CCA6C-D0CD-4442-B572-CF2093A1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7B73A-74B9-4D8B-97E9-88741A67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1973F-F08A-4BA1-9F16-7B65C97F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F1DF4-81CC-4411-909F-FA7AEE1F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FD4F-63FD-4CF8-96D5-68EDB16563A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B44A-87D1-43D0-8D20-5DD810B67B9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540800"/>
            <a:ext cx="957744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18</a:t>
            </a:r>
            <a:r>
              <a:rPr b="1" lang="bg-BG" sz="3000" spc="-1" strike="noStrike">
                <a:solidFill>
                  <a:srgbClr val="ffffff"/>
                </a:solidFill>
                <a:latin typeface="Garamond"/>
              </a:rPr>
              <a:t>9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lang="bg-BG" sz="3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Тоз, който за прибежищ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збрал е Всемогъщия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мира защитени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д покров на Всевишния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75104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Господ е неговий Отец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го избави от сетта*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Сатана, тоз враг ловец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пази от погибелта.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75032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Тоз, кой под Божиите крила намерил е прибежищ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има Божия истин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щит и всеоръжие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74888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. Най-силните са немощн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който може да рече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е спасението ми"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само в безопасност е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09T16:18:58Z</dcterms:modified>
  <cp:revision>122</cp:revision>
  <dc:subject/>
  <dc:title>Slide 1</dc:title>
</cp:coreProperties>
</file>